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jpeg" ContentType="image/jpeg"/>
  <Override PartName="/ppt/media/image22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59C8-ACCB-4D56-9DAA-EA1A4CA0E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5BA2-C393-4018-919E-158DF0F98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522E-BEEC-42C5-B3DB-70479EA76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BD47-7AA3-4B07-A43D-4AC44CAAC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095EA-DCD4-4F27-A280-DF764228A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2AC62-50ED-4167-B406-7FD3856CF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8BD27-42BA-467A-93A6-971175762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B9890-E249-4447-8CCD-8ED6CD2B9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7551E-416C-4941-BAF6-A09C1772B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FD2CB-62DD-44D6-9D3B-A283AA4BD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D6FF3-17BA-493C-80E6-3F7F3C59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1BCA-5C91-4532-8F0C-799B150F1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C03BB-4289-40FC-B567-992CA251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594E2-D5DA-44A8-A167-A9EC5871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D7428-F311-4B25-A3AF-969A45F8B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C1058-AF8F-41B8-82F5-9586BD719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A397B-A922-4199-8404-9A20ADD3D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7E0E-F1B2-42A3-B21B-EA3BFCBB1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4F8A-1956-4C9B-87CE-EDAE57030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CFEF-FA1E-4030-AB88-02F5D13DD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D12A-8CE4-4D27-80A6-844200A16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B4CE-4FBA-46BC-85FF-704978EE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B565-84C2-4E03-AC69-EA7F42C6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4442-232E-4C5C-9E6C-3A20EF9C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ACDA7-EEC7-4E73-A904-A0BA1A6BD80D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5C7A0-804D-4590-A4C9-4369594CB7B6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ELL PART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PLASMA MEMBRAN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OUNDARY THAT SEPARATES THE INTERNAL PARTS OF THE CELL FROM THE EXTERNAL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VELY PERMEABLE -    </a:t>
            </a:r>
            <a:r>
              <a:rPr b="0" lang="en-US" sz="3200" spc="-1" strike="noStrike" u="sng">
                <a:solidFill>
                  <a:srgbClr val="4633c0"/>
                </a:solidFill>
                <a:uFillTx/>
                <a:latin typeface="Times New Roman"/>
              </a:rPr>
              <a:t>CONTROLS WHAT ENTERS AND LEAVES THE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066680" y="609480"/>
            <a:ext cx="73915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YTOPLASM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ELL </a:t>
            </a:r>
            <a:r>
              <a:rPr b="0" lang="en-US" sz="3200" spc="-1" strike="noStrike" u="sng">
                <a:solidFill>
                  <a:srgbClr val="4633c0"/>
                </a:solidFill>
                <a:uFillTx/>
                <a:latin typeface="Times New Roman"/>
              </a:rPr>
              <a:t>FLU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WHICH THE OTHER CELL PARTS ARE SUSPEN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EXTURE IS SOMEWHAT LIKE </a:t>
            </a:r>
            <a:r>
              <a:rPr b="0" lang="en-US" sz="3200" spc="-1" strike="noStrike" u="sng">
                <a:solidFill>
                  <a:srgbClr val="4633c0"/>
                </a:solidFill>
                <a:uFillTx/>
                <a:latin typeface="Times New Roman"/>
              </a:rPr>
              <a:t>GELAT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ORGANELL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INCT BODIES WITHIN THE CELL THAT CARRY OUT SPECIFIC CELLULAR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TTLE </a:t>
            </a:r>
            <a:r>
              <a:rPr b="0" lang="en-US" sz="3200" spc="-1" strike="noStrike" u="sng">
                <a:solidFill>
                  <a:srgbClr val="4633c0"/>
                </a:solidFill>
                <a:uFillTx/>
                <a:latin typeface="Times New Roman"/>
              </a:rPr>
              <a:t>ORGA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523880" y="380880"/>
            <a:ext cx="64771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MITOCHONDRI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ORGANELLE IS A SMALL, ROD-SHAPED BODY WITH A DOUBLE MEMBRANE (THE INNER MEMBRANE IS GREATLY FOLD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ITE OF </a:t>
            </a:r>
            <a:r>
              <a:rPr b="0" lang="en-US" sz="3200" spc="-1" strike="noStrike" u="sng">
                <a:solidFill>
                  <a:srgbClr val="4633c0"/>
                </a:solidFill>
                <a:uFillTx/>
                <a:latin typeface="Times New Roman"/>
              </a:rPr>
              <a:t>CELLULAR RESPIR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A PROCESS WHICH RELEASES ENERGY FROM FOOD &amp; STORES IT AS 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057400" y="1600200"/>
            <a:ext cx="44956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RIBOSOM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MALL, GRAIN-LIKE BODY, USUALLY ATTACHED TO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BOSOMES ARE THE </a:t>
            </a:r>
            <a:r>
              <a:rPr b="0" lang="en-US" sz="3200" spc="-1" strike="noStrike" u="sng">
                <a:solidFill>
                  <a:srgbClr val="4633c0"/>
                </a:solidFill>
                <a:uFillTx/>
                <a:latin typeface="Times New Roman"/>
              </a:rPr>
              <a:t>PROTEIN FACTOR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CELL - THEY ARE THE SITE OF PROTEIN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600200" y="914400"/>
            <a:ext cx="63244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ENDOPLASMIC RETICULUM (ER)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YSTEM OF PARALLEL MEMBRANES THAT CONNECT THE NUCLEAR MEMBRANE WITH THE PLASMA MEMBR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S LIKE A SYSTEM OF </a:t>
            </a:r>
            <a:r>
              <a:rPr b="0" lang="en-US" sz="2800" spc="-1" strike="noStrike" u="sng">
                <a:solidFill>
                  <a:srgbClr val="4633c0"/>
                </a:solidFill>
                <a:uFillTx/>
                <a:latin typeface="Times New Roman"/>
              </a:rPr>
              <a:t>CAN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2800" spc="-1" strike="noStrike" u="sng">
                <a:solidFill>
                  <a:srgbClr val="4633c0"/>
                </a:solidFill>
                <a:uFillTx/>
                <a:latin typeface="Times New Roman"/>
              </a:rPr>
              <a:t>TRANSPORT MATERI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ROUGH THE 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RIBOSOMES ARE ATTACHED = </a:t>
            </a:r>
            <a:r>
              <a:rPr b="0" lang="en-US" sz="2800" spc="-1" strike="noStrike" u="sng">
                <a:solidFill>
                  <a:srgbClr val="4633c0"/>
                </a:solidFill>
                <a:uFillTx/>
                <a:latin typeface="Times New Roman"/>
              </a:rPr>
              <a:t>ROUGH 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NO RIBOSOMES PRESENT = </a:t>
            </a:r>
            <a:r>
              <a:rPr b="0" lang="en-US" sz="2800" spc="-1" strike="noStrike" u="sng">
                <a:solidFill>
                  <a:srgbClr val="4633c0"/>
                </a:solidFill>
                <a:uFillTx/>
                <a:latin typeface="Times New Roman"/>
              </a:rPr>
              <a:t>SMOOTH 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3 MAIN REGIONS OF THE CELL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CL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YTOPLA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SMA MEMBR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143000" y="990720"/>
            <a:ext cx="69343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GOLGI COMPLEX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RGANELLE MADE OF A GROUP OF SLIGHTLY FLATTENED, STACKED MEMBRA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THOUGHT TO CONCENTRATE &amp; STORE CELL SECRETIONS SUCH AS </a:t>
            </a:r>
            <a:r>
              <a:rPr b="0" lang="en-US" sz="3200" spc="-1" strike="noStrike" u="sng">
                <a:solidFill>
                  <a:srgbClr val="4633c0"/>
                </a:solidFill>
                <a:uFillTx/>
                <a:latin typeface="Times New Roman"/>
              </a:rPr>
              <a:t>ENZYMES &amp; HORM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AGES &amp; STORES </a:t>
            </a:r>
            <a:r>
              <a:rPr b="0" lang="en-US" sz="3200" spc="-1" strike="noStrike" u="sng">
                <a:solidFill>
                  <a:srgbClr val="4633c0"/>
                </a:solidFill>
                <a:uFillTx/>
                <a:latin typeface="Times New Roman"/>
              </a:rPr>
              <a:t>PROTE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81536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LYSOSOME</a:t>
            </a: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PECIALIZED KIND OF </a:t>
            </a:r>
            <a:r>
              <a:rPr b="0" lang="en-US" sz="3200" spc="-1" strike="noStrike" u="sng">
                <a:solidFill>
                  <a:srgbClr val="4633c0"/>
                </a:solidFill>
                <a:uFillTx/>
                <a:latin typeface="Times New Roman"/>
              </a:rPr>
              <a:t>VACUO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 IS A SACK OF STORED DIGESTIVE ENZY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PS DIGEST PROTEINS THAT HAVE BEEN TAKEN INTO THE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:  </a:t>
            </a:r>
            <a:r>
              <a:rPr b="0" lang="en-US" sz="3200" spc="-1" strike="noStrike" u="sng">
                <a:solidFill>
                  <a:srgbClr val="4633c0"/>
                </a:solidFill>
                <a:uFillTx/>
                <a:latin typeface="Times New Roman"/>
              </a:rPr>
              <a:t>WHITE BLOOD CELLS CA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4633c0"/>
                </a:solidFill>
                <a:uFillTx/>
                <a:latin typeface="Times New Roman"/>
              </a:rPr>
              <a:t>            </a:t>
            </a:r>
            <a:r>
              <a:rPr b="0" lang="en-US" sz="3200" spc="-1" strike="noStrike" u="sng">
                <a:solidFill>
                  <a:srgbClr val="4633c0"/>
                </a:solidFill>
                <a:uFillTx/>
                <a:latin typeface="Times New Roman"/>
              </a:rPr>
              <a:t>ENGULF &amp; DESTROY BAC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838080" y="609480"/>
            <a:ext cx="74678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YTOSKELET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YSTEM OF PROTEIN FIBERS &amp; HOLLOW FILAMENTS THAT GIVE THE CELL ITS </a:t>
            </a:r>
            <a:r>
              <a:rPr b="0" lang="en-US" sz="3200" spc="-1" strike="noStrike" u="sng">
                <a:solidFill>
                  <a:srgbClr val="4633c0"/>
                </a:solidFill>
                <a:uFillTx/>
                <a:latin typeface="Times New Roman"/>
              </a:rPr>
              <a:t>SHAP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HELP THE CELL TO </a:t>
            </a:r>
            <a:r>
              <a:rPr b="0" lang="en-US" sz="3200" spc="-1" strike="noStrike" u="sng">
                <a:solidFill>
                  <a:srgbClr val="4633c0"/>
                </a:solidFill>
                <a:uFillTx/>
                <a:latin typeface="Times New Roman"/>
              </a:rPr>
              <a:t>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84582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ENTRIOL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ODY MADE OF BUNDLES OF PROTEIN FIBERS, LOCATED NEAR THE </a:t>
            </a:r>
            <a:r>
              <a:rPr b="0" lang="en-US" sz="3200" spc="-1" strike="noStrike" u="sng">
                <a:solidFill>
                  <a:srgbClr val="4633c0"/>
                </a:solidFill>
                <a:uFillTx/>
                <a:latin typeface="Times New Roman"/>
              </a:rPr>
              <a:t>NUCLE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NIMAL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ES SPINDLE FIBERS THAT AID IN </a:t>
            </a:r>
            <a:r>
              <a:rPr b="0" lang="en-US" sz="3200" spc="-1" strike="noStrike" u="sng">
                <a:solidFill>
                  <a:srgbClr val="4633c0"/>
                </a:solidFill>
                <a:uFillTx/>
                <a:latin typeface="Times New Roman"/>
              </a:rPr>
              <a:t>CELL DI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FOUND ONLY IN </a:t>
            </a:r>
            <a:r>
              <a:rPr b="0" lang="en-US" sz="3200" spc="-1" strike="noStrike" u="sng">
                <a:solidFill>
                  <a:srgbClr val="4633c0"/>
                </a:solidFill>
                <a:uFillTx/>
                <a:latin typeface="Times New Roman"/>
              </a:rPr>
              <a:t>ANIM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ELLS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143000" y="685800"/>
            <a:ext cx="70102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VACUOLE</a:t>
            </a: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CES IN THE CYTOPLASM SURROUNDED BY A MEMBR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STORE </a:t>
            </a:r>
            <a:r>
              <a:rPr b="0" lang="en-US" sz="3200" spc="-1" strike="noStrike" u="sng">
                <a:solidFill>
                  <a:srgbClr val="4633c0"/>
                </a:solidFill>
                <a:uFillTx/>
                <a:latin typeface="Times New Roman"/>
              </a:rPr>
              <a:t>FOOD, WATER, OR WA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TS OFTEN HAVE A LARGE, CENTRAL VACUOLE FILLED WITH </a:t>
            </a:r>
            <a:r>
              <a:rPr b="0" lang="en-US" sz="3200" spc="-1" strike="noStrike" u="sng">
                <a:solidFill>
                  <a:srgbClr val="4633c0"/>
                </a:solidFill>
                <a:uFillTx/>
                <a:latin typeface="Times New Roman"/>
              </a:rPr>
              <a:t>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09480" y="685800"/>
            <a:ext cx="8229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914400" y="457200"/>
            <a:ext cx="73152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ELL WALL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IGID, </a:t>
            </a:r>
            <a:r>
              <a:rPr b="0" lang="en-US" sz="2800" spc="-1" strike="noStrike" u="sng">
                <a:solidFill>
                  <a:srgbClr val="4633c0"/>
                </a:solidFill>
                <a:uFillTx/>
                <a:latin typeface="Times New Roman"/>
              </a:rPr>
              <a:t>NON-LIV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AYER FOUND OUTSIDE THE PLASMA MEMBRANE IN PLANTS, FUNGI, &amp; BAC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</a:t>
            </a:r>
            <a:r>
              <a:rPr b="0" lang="en-US" sz="2800" spc="-1" strike="noStrike" u="sng">
                <a:solidFill>
                  <a:srgbClr val="4633c0"/>
                </a:solidFill>
                <a:uFillTx/>
                <a:latin typeface="Times New Roman"/>
              </a:rPr>
              <a:t>SUPPO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THE 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PLANTS ITS MADE OF </a:t>
            </a:r>
            <a:r>
              <a:rPr b="0" lang="en-US" sz="2800" spc="-1" strike="noStrike" u="sng">
                <a:solidFill>
                  <a:srgbClr val="4633c0"/>
                </a:solidFill>
                <a:uFillTx/>
                <a:latin typeface="Times New Roman"/>
              </a:rPr>
              <a:t>CELLULO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N FUNGI ITS MADE OF CHIT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143000" y="1066680"/>
            <a:ext cx="74674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LOROPLAS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CTURES THAT CONTAIN THE PIGMENT </a:t>
            </a:r>
            <a:r>
              <a:rPr b="0" lang="en-US" sz="3200" spc="-1" strike="noStrike" u="sng">
                <a:solidFill>
                  <a:srgbClr val="4633c0"/>
                </a:solidFill>
                <a:uFillTx/>
                <a:latin typeface="Times New Roman"/>
              </a:rPr>
              <a:t>CHLOROPHY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FOUND ONLY IN </a:t>
            </a:r>
            <a:r>
              <a:rPr b="0" lang="en-US" sz="3200" spc="-1" strike="noStrike" u="sng">
                <a:solidFill>
                  <a:srgbClr val="4633c0"/>
                </a:solidFill>
                <a:uFillTx/>
                <a:latin typeface="Times New Roman"/>
              </a:rPr>
              <a:t>PLA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ITE OF </a:t>
            </a:r>
            <a:r>
              <a:rPr b="0" lang="en-US" sz="3200" spc="-1" strike="noStrike" u="sng">
                <a:solidFill>
                  <a:srgbClr val="4633c0"/>
                </a:solidFill>
                <a:uFillTx/>
                <a:latin typeface="Times New Roman"/>
              </a:rPr>
              <a:t>PHOTOSYNTHES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COMPLEX PL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33520" y="380880"/>
            <a:ext cx="81532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83059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67680" cy="67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80773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NUCLEU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4633c0"/>
                </a:solidFill>
                <a:uFillTx/>
                <a:latin typeface="Times New Roman"/>
              </a:rPr>
              <a:t>THE CONTROL CENTER OF THE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INS GENETIC MATERIAL (DNA) AND IS SURROUNDED BY A NUCLEAR MEMBR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NUCLEOLU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OR MORE DARK-STAINED BODIES WITHIN THE NUCL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STRUCTURES ARE THOUGHT TO MAKE AND STORE </a:t>
            </a:r>
            <a:r>
              <a:rPr b="0" lang="en-US" sz="3200" spc="-1" strike="noStrike" u="sng">
                <a:solidFill>
                  <a:srgbClr val="4633c0"/>
                </a:solidFill>
                <a:uFillTx/>
                <a:latin typeface="Times New Roman"/>
              </a:rPr>
              <a:t>R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THEY ARE THOUGHT TO HELP MAKE THE </a:t>
            </a:r>
            <a:r>
              <a:rPr b="0" lang="en-US" sz="3200" spc="-1" strike="noStrike" u="sng">
                <a:solidFill>
                  <a:srgbClr val="4633c0"/>
                </a:solidFill>
                <a:uFillTx/>
                <a:latin typeface="Times New Roman"/>
              </a:rPr>
              <a:t>RIBOS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85800" y="914400"/>
            <a:ext cx="80773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ROMATI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RK, GRAINY LOOKING STUFF INSIDE THE NUCLEUS OF THE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OMATIN IS MADE OF TANGLES OF </a:t>
            </a:r>
            <a:r>
              <a:rPr b="0" lang="en-US" sz="3200" spc="-1" strike="noStrike" u="sng">
                <a:solidFill>
                  <a:srgbClr val="4633c0"/>
                </a:solidFill>
                <a:uFillTx/>
                <a:latin typeface="Times New Roman"/>
              </a:rPr>
              <a:t>DNA &amp; PROT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STORES GENETIC INFORMATION &amp; CHANGES FORM JUST BEFORE CELL DIVISION TO BECOME CHROMOS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ROMOSOM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RKLY-STAINED, PAIRED BODIES MADE OF DNA AND PROT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SIBLE ONLY DURING </a:t>
            </a:r>
            <a:r>
              <a:rPr b="0" lang="en-US" sz="3200" spc="-1" strike="noStrike" u="sng">
                <a:solidFill>
                  <a:srgbClr val="4633c0"/>
                </a:solidFill>
                <a:uFillTx/>
                <a:latin typeface="Times New Roman"/>
              </a:rPr>
              <a:t>CELL DI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CONTAIN THE GENETIC INFORMATION OF THE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09480" y="457200"/>
            <a:ext cx="78487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03:01Z</dcterms:created>
  <dc:creator>NHS</dc:creator>
  <dc:description/>
  <dc:language>en-US</dc:language>
  <cp:lastModifiedBy>NHS NPS</cp:lastModifiedBy>
  <dcterms:modified xsi:type="dcterms:W3CDTF">2011-11-30T17:21:25Z</dcterms:modified>
  <cp:revision>24</cp:revision>
  <dc:subject/>
  <dc:title>THE CELL</dc:title>
</cp:coreProperties>
</file>